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5456-7ED8-45D8-B4BD-B4FDC62F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218A-D36D-400B-9393-2E6B5D0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6857-05F5-4D28-A59C-94D88284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A8C1-6FAC-4913-81D3-8BBF568E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7634-B194-466B-9281-58CE871E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C4B-00B5-466A-82EB-4F9675C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FDD6-3EC9-4E20-94DE-5C76AF2D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D637-B032-421E-9C72-41B9D4A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C8CA-0D45-42AA-86FF-3DB3B3C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C31-0888-4BDA-8952-E7755BF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7502-7362-41C4-B939-C6218CE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19CB-6860-46C6-9B57-65DEF9D5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B322-B7A7-470F-A6D6-DBE5E42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E93-8CA3-4748-84CE-C86D501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47E4-75CD-425F-947D-B68F5BF1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6FE0-F04B-49F2-BA76-2F7A8729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932-A579-483A-8843-7733E199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7106-051C-4A37-A813-0922858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EE88-C6C4-41DD-BAA4-2159FDD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C9B0-E7F2-4463-B615-BB311A8C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556D-B9A9-4948-A41C-D6D618A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CA4F-B61C-4502-A760-D16BB6C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79CA-E6A4-422F-A2F6-D62F80AF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1B11-56BF-4ED5-8C74-5DC81AC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D1BE-E56B-40D9-8A57-62464DB7B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4BE-DBF1-4C46-B671-B926E47D8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83816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atec - Java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stavo Wag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gawag@gmail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453960"/>
            <a:ext cx="806436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9640" y="415800"/>
            <a:ext cx="806472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495360"/>
            <a:ext cx="799128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0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388800"/>
            <a:ext cx="8064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357120"/>
            <a:ext cx="806436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701640"/>
            <a:ext cx="74898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5337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nce, run 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bstrai alguns conceitos “baixo níveis” tais como aritmética de ponteiros e alocação de memó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2527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5981760" cy="2266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futuramente todos os aparelhos eletrônicos terão Java; (J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571920"/>
            <a:ext cx="1305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152880" cy="4273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1463760" cy="94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7280" y="1341360"/>
            <a:ext cx="2881080" cy="165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41300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! Vê se diminui a temperatura para que a carne não me esquent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08360" y="234900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4000" y="3429000"/>
            <a:ext cx="136836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30872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s empresas estão investindo os tubos! - J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44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rother 5 Case - J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2585880"/>
            <a:ext cx="4114800" cy="1686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80000" y="4149720"/>
            <a:ext cx="1333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todos os concursos pedem Jav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856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seu papai poderá comprar milhões de pirulitos para você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3068640" cy="351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659640" y="3141720"/>
            <a:ext cx="187308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ora entendi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867280" y="3933360"/>
            <a:ext cx="792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0:42:01Z</dcterms:created>
  <dc:creator>Gustavo Wagner Diniz Mendes</dc:creator>
  <dc:description/>
  <cp:keywords/>
  <dc:language>en-US</dc:language>
  <cp:lastModifiedBy>Filipe</cp:lastModifiedBy>
  <dcterms:modified xsi:type="dcterms:W3CDTF">2006-02-03T03:04:14Z</dcterms:modified>
  <cp:revision>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