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09760" y="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76200" y="701280"/>
            <a:ext cx="4778640" cy="35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66960" y="4599000"/>
            <a:ext cx="53956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09760" y="912024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BC892-C6E6-4A0D-97B5-2F2E4E7FC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5873F5-8FBF-488E-92A7-92097057EB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189C18-A76F-4529-B053-F1093137C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788231-14E4-439A-9AFF-3BBC8D5FA5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34898A-00B9-459E-9CEF-C14156F6BA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C3525C-03F8-4DF0-BF84-256656CEF3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890625-8B2B-4A9D-83A5-5E6D1195E5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37ED36-B692-414A-8824-5D9C4BB192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2CC875-8DFF-42CA-BA42-14E9A0ABA8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09698E-3CDE-485A-B675-D7F959AA78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5175D8-01AE-443A-9700-9C2AC3A7DC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2E6-F305-49F8-AB88-E4BF1841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24A-DC77-42D9-A95B-C158CC2B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95F-5595-4661-9053-A30F32AF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D51-144B-49A6-9604-B28B7C40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E6B8-D2B1-4A39-837D-BF2057DF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01FA-6B13-4150-9F69-BF24EAE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24D1-1EE5-4112-AB55-0639DFC6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DC30-604D-4CA7-87DA-AA48740A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A5D7-29B0-433D-8C5A-38B28AA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17E2-DEA0-45B8-92F0-E3AB79A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BCC7-4E9D-441C-B31F-417E8AB6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D0E-F5B5-479B-B87D-DF152AA7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EDFD-F8A3-4486-AEA8-6DAC2DB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EAFA-3129-4905-9C2A-4FB227E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9D4E-3DCD-424D-A87A-289FC376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8D48-FB79-46B4-AAD1-DC7EAC0F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57C-EC6B-47C7-AC9D-3AE50DDF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2AD-744D-4081-B72F-EACD6DA6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D1B-70FB-4782-B875-61D792F1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F6F-FBA3-4885-8EFC-7EB96687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F28-3E30-485F-AC83-245F326B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1C1-EE24-48A7-97D9-DBB72199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235-BD6A-44F5-BD83-D9C7755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CD2-EB06-402F-96D1-A3AC55A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30000" indent="-2412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712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600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423F63-7C29-4F45-B616-E7FF5772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338169-15CF-4972-880E-7FFD1CF5FD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6640" indent="-2966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4760" indent="-24696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rodução ao Jav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7391520" cy="26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Prof. Gustavo Wagner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(modificações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Slides originais: Prof. Tiago Massoni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Java Básico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FATEC-PB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198960" y="6172200"/>
            <a:ext cx="34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de Informática, UF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egur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bientes distribuídos demandam esta característ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érie de restrições de segu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canismo de segurança de apple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cesso de melhora consta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blemas exi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712-7080-4243-9CD4-5D90902D9C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Portável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313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dependência de plataforma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m tese, redução de custos com migração, treinamento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o: Tamanho de tipos de dad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bliotecas funcionam com relativa independênc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tra-exemplo: AW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F11-4470-4119-AC5A-DD799D0121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Java é Independente de Plataform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acterística chave de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incipal fator de inovação da plataforma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Quase todas as decisões dos projetistas de Java priorizam esta característic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rece mais detalhes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B2A-01A8-4C25-8EA5-B175AE8AAC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mpilação x Interpretaçã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26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 dependente de máquina é gerado a partir de um código-fon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-fonte é executado diretamente sem a geração de código dependente de máquina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FCF-27A6-4B9B-A6BD-37A2FCB8A1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taforma = Sistema Computacional +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mente nomeada pelo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: Windows, Linux (Unix), Mac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erem no conjunto de instru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80E-0F37-42DB-AB91-2F6BC7A91E9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gramas e 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as são compilados (traduzidos) para linguagem de máqu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Uso de bibliotecas (API) específicas da plataform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as não-portávei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86728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495288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541008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64320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8803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273480"/>
            <a:ext cx="99072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=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xwin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2970360"/>
            <a:ext cx="167652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ECL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REATEWI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3949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189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893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57200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474960" y="6172200"/>
            <a:ext cx="84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A8A-96A4-46C6-8373-DCE162223E8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Sistemas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720" y="1676160"/>
            <a:ext cx="8074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rtabilid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Write Once, Run Anywhe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mportante em aplicações distribuídas (Internet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m único programa executa uniformemente em “qualquer” 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AVA!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640-6D12-432B-B882-AC83915DC10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773840" cy="48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binação compilação + 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áquina virtual Java: ponte entre programas e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lataforma” Jav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dor Java traduz programas para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bytecod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que são interpretados para a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83C-420E-449A-B147-6BBC1B5E1A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48640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11480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81360" y="457200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57796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95668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057400"/>
            <a:ext cx="137160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new applet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38960" y="2573280"/>
            <a:ext cx="1447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54760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12408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5891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Comic Sans MS"/>
              </a:rPr>
              <a:t>Byt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79800" y="5029200"/>
            <a:ext cx="2619360" cy="4572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áquina virtual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04812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89160" y="5257800"/>
            <a:ext cx="1451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3579840"/>
            <a:ext cx="19814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r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C33-554B-4BDF-93D7-B50F09B189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ngenharia Revers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bytecode, por ser interpretado, pode ser “descompilado”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ódigo fonte pode ser recuperado, mesmo depois da compilação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ção: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Obfuscato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F1A-F6D1-487C-8FB5-A761C71905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37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iada pela Sun Micro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pecificação de uma linguag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gramação orientada a objeto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pósito ger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oje padronização no Java Community Process (JCP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mente associada à explosão da Web como ambiente de trabalho e lazer (apple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487-9AF2-4E81-A35C-2A1C628EA9D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ão há necessidade de mudanças em programas para funcionamento em diferentes plataform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enas uma versão do programa é suficiente para distribuição multi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ftware para Interne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24C-0DBA-43A0-A6E6-34F4732331E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Des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de-se poder pela renúncia a algumas instruções particula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nominador comu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pretação pode ter desempenho pior do que compil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 particular, a plataforma Java evoluiu bast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Just-in-tim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(JI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9B5-086E-4CFE-8B74-733A3FCC5A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volução do Compilador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rendizado com o status da máquina: HotSpo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291-6EDA-4A91-A79E-C011AB15D46F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o mesmo tempo uma linguagem e uma plataforma (máquina virtual e bibliotec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giu do questionamento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eficiência vs. Portabilidade (simplicida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éias inovadoras que influenciaram a indústria de forma signific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 u="sng">
                <a:solidFill>
                  <a:srgbClr val="cc0000"/>
                </a:solidFill>
                <a:uFillTx/>
                <a:latin typeface="Comic Sans MS"/>
              </a:rPr>
              <a:t>Visual J++, C#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429-DF7D-4AD5-BA1F-03BBEE52A7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90: início dos trabalhos na Sun com portabi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mes Gosling: Pai de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ão ao software proprietár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++ (menos men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s simpl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ependente de arquitetu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D70-D7D5-4E90-AA4E-5EAEFB4699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1120" y="1214280"/>
            <a:ext cx="822960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4: Explosão do WW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ogia de navegadores incentivou aquelas idé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ou de apenas HTML (estático) para aplicações dinâmicas com App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rou Java pela 1a. Vez (1995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scape, IBM, Symantec, Microso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6: Primeira versão (1.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8: Java 2 (1.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3: Java 2 (1.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5: Java 2 (1.5) – JDK 5.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C8F-8E32-4780-835F-055AE7E85D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s palavras chave de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ava é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mp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rientada a obje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obust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egur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ortá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17F-3684-4B71-87BF-8D1DA81D96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imple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439640"/>
            <a:ext cx="731376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taxe familiar a vários programadores (baseada em C e C++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a conceitos complexos de C++, tais como: aritmética de ponteiros e gerência de memória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s, pelo poder oferec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manho reduz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AD2-E1D5-468C-BD18-E87FB8235B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Orientada a Objeto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bjetos e Clas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capsulamento de dados e operaçõ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ipos e He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ou complexidades de objetos do C+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E51-B8A4-433A-B0FE-7BC99A44A0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Robust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usência de ponteiros: mentira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rova: NullPointerException! :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temente tipad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ilador “chato”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va 1.5 inclusive checa tipo de objetos em tempo de compilação das estruturas de da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leta de lixo automática: Garbage Collect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cesso a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array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é verifica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áveis são iniciadas automaticame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 exceção de variáveis locai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87E-B1C5-4D34-A13E-CBB5086B5A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lipe</cp:lastModifiedBy>
  <dcterms:modified xsi:type="dcterms:W3CDTF">2006-02-06T04:51:53Z</dcterms:modified>
  <cp:revision>1</cp:revision>
  <dc:subject/>
  <dc:title>Introdução ao Java</dc:title>
</cp:coreProperties>
</file>