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109760" y="0"/>
            <a:ext cx="3220920" cy="465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76200" y="701280"/>
            <a:ext cx="4778640" cy="35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66960" y="4599000"/>
            <a:ext cx="5395680" cy="4284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12024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109760" y="9120240"/>
            <a:ext cx="3220920" cy="465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1F47F-F9C3-4838-B5B2-4FE523F8A2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FB92AA-0281-47AF-AE16-8D289B3B7D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C90169-9BD0-4961-BBB3-A8DF5150FB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F3D90B-59A5-4A48-BE4E-B7F959D5A6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D30933-730F-4680-B10D-D231AAEC1F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02E10C-CAC8-4B57-BE27-D092A8D636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B63E16-6C1C-4E42-B6D5-B8101BC236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1DC5E7-ED34-4D74-A566-72F7A6E075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3C1592-840A-4ADC-859F-82895D0158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B8C4FE-5E01-4118-914F-A87F1079B6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110120" y="931464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1B6879-95F8-4BAE-8A05-A4300909B3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31464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31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0120" y="0"/>
            <a:ext cx="3222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66840" y="725400"/>
            <a:ext cx="478296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66600" y="4598640"/>
            <a:ext cx="53974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1BFC-B1BA-4B72-A9F9-B960A6D2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9A87-BDE7-4398-AA21-90D8CD9C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6289-18E4-4EE2-98EC-FA300638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838D-C536-47C0-A2D7-85AF03CA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4732-4386-4D43-A3AA-B3C1E068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ADFF-17E6-4BDB-A6DE-79729DA9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724B-3B43-4982-9B84-E74B4A99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1BEF-5236-446C-A14C-01ED3063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9546-664A-4F0D-8692-822AF889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C1BC-048C-4E72-B25D-C2D649DD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F11F-A7BE-4BCD-8A4B-600DB499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631C-9750-4736-AB3E-0B9D4BAE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7BAA-5AFF-49EE-9020-E60BF4DE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AE8B-324E-48E7-97EE-8F307A6F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8D0F-6E4D-4BCF-B43B-F33F53C0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CBA6-6BC3-49ED-B3C9-B919F26C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65F2-EC65-41A1-A302-B3544DD0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60DE-6D24-4484-A2A9-D1A69D62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E373-1172-4A65-A198-7FD7A928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4C69-BC12-4D0A-884D-0717684D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D04A-104A-4C6E-A72A-20F3C92B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6A88-6541-471D-9B04-F46A267F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4980-3374-472E-970C-6C65366B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7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78B5-DF24-48A5-AD78-DB9561AC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89800" indent="-28980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30000" indent="-24120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971280" indent="-19404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360080" indent="-19404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748520" indent="-19404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748520" indent="-19404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748520" indent="-19404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98F171-E2FE-42A2-879E-0EDEA5BC4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95D0F8A-2994-4846-A725-4A94492AB04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6640" indent="-29664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44760" indent="-24696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392120" indent="-19872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789920" indent="-19872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789920" indent="-19872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789920" indent="-19872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Introdução ao Java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3429000"/>
            <a:ext cx="7391520" cy="26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12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Prof. Gustavo Wagner 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(modificações)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Slides originais: Prof. Tiago Massoni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Java Básico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FATEC-PB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3198960" y="6172200"/>
            <a:ext cx="34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o de Informática, UF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Segur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6960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bientes distribuídos demandam esta característic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érie de restrições de seguranç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canismo de segurança de apple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cesso de melhora constan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roblemas existe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606-C783-4DEF-B4CB-A243565B8F7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Portável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313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dependência de plataforma..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m tese, redução de custos com migração, treinamento..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o: Tamanho de tipos de dad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bliotecas funcionam com relativa independênci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ntra-exemplo: AW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C265-A1A4-44EF-8BE0-53E8E5A15F2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Java é Independente de Plataforma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racterística chave de Jav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incipal fator de inovação da plataforma Jav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Quase todas as decisões dos projetistas de Java priorizam esta característica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rece mais detalhes..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C7F8-5036-4DCE-B7CD-80E57944084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ompilação x Interpretação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926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il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ódigo dependente de máquina é gerado a partir de um código-font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terpret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ódigo-fonte é executado diretamente sem a geração de código dependente de máquina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968C-801A-482C-B8CD-2108A060B68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Plataformas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taforma = Sistema Computacional + Sistema Operaci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rmalmente nomeada pelo sistema operaci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Ex: Windows, Linux (Unix), Mac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ferem no conjunto de instruçõ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C82A-9611-4B69-BDCC-CCBFDC0512F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Programas e Plataformas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gramas são compilados (traduzidos) para linguagem de máqui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Uso de bibliotecas (API) específicas da plataforma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rogramas não-portáveis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5867280"/>
            <a:ext cx="4038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a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4952880"/>
            <a:ext cx="266688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81360" y="5410080"/>
            <a:ext cx="3200400" cy="45720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i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3643200"/>
            <a:ext cx="16002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i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2880360" y="3516480"/>
            <a:ext cx="484200" cy="609840"/>
          </a:xfrm>
          <a:prstGeom prst="downArrow">
            <a:avLst>
              <a:gd name="adj1" fmla="val 50000"/>
              <a:gd name="adj2" fmla="val 314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3273480"/>
            <a:ext cx="990720" cy="70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int a=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xwin(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2970360"/>
            <a:ext cx="1676520" cy="107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ECL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CREATEWI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5394960" y="3516480"/>
            <a:ext cx="484200" cy="609840"/>
          </a:xfrm>
          <a:prstGeom prst="downArrow">
            <a:avLst>
              <a:gd name="adj1" fmla="val 50000"/>
              <a:gd name="adj2" fmla="val 314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1893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ódigo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418932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ódigo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4572000"/>
            <a:ext cx="14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474960" y="6172200"/>
            <a:ext cx="841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E34F-8C18-4FEA-BDCA-24CBE397246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Sistemas Multiplataform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2720" y="1676160"/>
            <a:ext cx="8074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rtabilida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Write Once, Run Anywher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mportante em aplicações distribuídas (Internet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m único programa executa uniformemente em “qualquer” platafor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AVA!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D8D-B2D7-4F0E-8E7C-0C1D1397F3D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Multiplataform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773840" cy="480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binação compilação + interpret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áquina virtual Java: ponte entre programas e plataforma re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lataforma” Java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ilador Java traduz programas para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bytecod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que são interpretados para a plataforma re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D4EC-B782-43F4-8AE2-3338DCB3DF8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Multiplataform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5486400"/>
            <a:ext cx="4038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a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114800"/>
            <a:ext cx="266688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81360" y="4572000"/>
            <a:ext cx="3200400" cy="45720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i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2577960"/>
            <a:ext cx="16002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i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2956680" y="2451600"/>
            <a:ext cx="484200" cy="609480"/>
          </a:xfrm>
          <a:prstGeom prst="downArrow">
            <a:avLst>
              <a:gd name="adj1" fmla="val 50000"/>
              <a:gd name="adj2" fmla="val 3146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2057400"/>
            <a:ext cx="1371600" cy="9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int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new applet(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38960" y="2573280"/>
            <a:ext cx="144792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5547600" y="2451600"/>
            <a:ext cx="484200" cy="609480"/>
          </a:xfrm>
          <a:prstGeom prst="downArrow">
            <a:avLst>
              <a:gd name="adj1" fmla="val 50000"/>
              <a:gd name="adj2" fmla="val 3146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12408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ódigo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258912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Comic Sans MS"/>
              </a:rPr>
              <a:t>Byt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79800" y="5029200"/>
            <a:ext cx="2619360" cy="457200"/>
          </a:xfrm>
          <a:prstGeom prst="rect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Máquina virtual 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3048120"/>
            <a:ext cx="18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789160" y="5257800"/>
            <a:ext cx="1451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3579840"/>
            <a:ext cx="19814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rpre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áqu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6D54-3877-4E64-9028-9BF05980E04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Engenharia Revers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 bytecode, por ser interpretado, pode ser “descompilado”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ódigo fonte pode ser recuperado, mesmo depois da compilação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ução: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Obfuscato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F479-244D-4B86-8AE8-3E1620DFC05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13760" cy="376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iada pela Sun Microsyst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specificação de uma linguag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programação orientada a objetos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propósito gera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Hoje padronização no Java Community Process (JCP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rmalmente associada à explosão da Web como ambiente de trabalho e lazer (applet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E126-A998-4FAC-9636-B13D745AA83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Vantagens de Sistemas Multiplataformas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ão há necessidade de mudanças em programas para funcionamento em diferentes plataform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penas uma versão do programa é suficiente para distribuição multiplatafor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oftware para Interne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A355-DFA5-4F54-B945-01E21CC0DB2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Desvantagens de Sistemas Multiplataformas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de-se poder pela renúncia a algumas instruções particula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nominador comu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pretação pode ter desempenho pior do que compila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m particular, a plataforma Java evoluiu bast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Just-in-tim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(JIT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E7DE-D4CF-42F9-98A5-8155EA20EA6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Evolução do Compilador Jav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17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prendizado com o status da máquina: HotSpo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76F8-1077-4B7C-BED1-D0C03F92A39F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694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o mesmo tempo uma linguagem e uma plataforma (máquina virtual e biblioteca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rgiu do questionamento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eficiência vs. Portabilidade (simplicidad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éias inovadoras que influenciaram a indústria de forma significati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 u="sng">
                <a:solidFill>
                  <a:srgbClr val="cc0000"/>
                </a:solidFill>
                <a:uFillTx/>
                <a:latin typeface="Comic Sans MS"/>
              </a:rPr>
              <a:t>Visual J++, C#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A454-9AF8-44D1-A011-5B306671C84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Histórico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990: início dos trabalhos na Sun com portabilida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mes Gosling: Pai de Ja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ão ao software proprietári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++ (menos meno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is simpl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dependente de arquitetu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BED2-E52C-4A72-A7EE-DE4656FDDE9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Histórico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1120" y="1214280"/>
            <a:ext cx="822960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994: Explosão do WW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ogia de navegadores incentivou aquelas idéi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sou de apenas HTML (estático) para aplicações dinâmicas com Appl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tJa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rou Java pela 1a. Vez (1995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scape, IBM, Symantec, Microsof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996: Primeira versão (1.0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998: Java 2 (1.2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03: Java 2 (1.4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05: Java 2 (1.5) – JDK 5.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2D3A-645B-47EE-8B18-802D4A2E334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As palavras chave de Jav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ava é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impl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Orientada a objeto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Robusta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egura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ortáve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E798-5365-4E5A-8222-F24A932BBD1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Simples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439640"/>
            <a:ext cx="7313760" cy="53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taxe familiar a vários programadores (baseada em C e C++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limina conceitos complexos de C++, tais como: aritmética de ponteiros e gerência de memória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mples, pelo poder ofereci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amanho reduzi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26B-067E-4CCF-A61D-6056B982386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Orientada a Objetos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bjetos e Class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capsulamento de dados e operaçõ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tipos e Heranç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liminou complexidades de objetos do C++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D96E-0626-46A4-B4B7-3989666F550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Java é Robusta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8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Ausência de ponteiros: mentira!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Prova: NullPointerException! :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rtemente tipad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mpilador “chato”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Java 1.5 inclusive checa tipo de objetos em tempo de compilação das estruturas de dado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leta de lixo automática: Garbage Collecto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cesso a 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array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é verificad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iáveis são iniciadas automaticame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m exceção de variáveis locai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714D-BD92-49E3-8AF1-F8DCFE3700F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ilipe</cp:lastModifiedBy>
  <dcterms:modified xsi:type="dcterms:W3CDTF">2006-02-06T04:51:53Z</dcterms:modified>
  <cp:revision>1</cp:revision>
  <dc:subject/>
  <dc:title>Introdução ao Java</dc:title>
</cp:coreProperties>
</file>