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09760" y="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6200" y="70128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6960" y="4599000"/>
            <a:ext cx="53956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09760" y="912024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CC584-624F-42EF-9BC5-A28C54D5F8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BC0320-7256-493A-92AE-B295B622B8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1C8F12-6F6D-4DCF-BC86-38485295D0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7BC6D-2EF5-40C2-AEB1-B42E40D5C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D5FB9D-50E6-4999-9697-BB4E37548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161FA5-0F75-42A7-8C7F-E71B11A04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696484-B550-44F9-A8D8-A5476A34D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F5CAB5-82E7-4D07-9DE5-979B8BF86A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167A14-FAF4-4A1F-ADB3-CA8EACD54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1EEC02-8630-4F7B-9492-D155639375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D9DB09-33F6-4166-9B79-F4E882B07A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47D-F5B1-4ADA-9E35-04A2889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8F7-A13A-43AB-903D-636844B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B07-20A0-4756-AF55-D570D802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722-D88B-474C-B4D0-07ADFE04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D054-B67F-46C0-B024-D5996CF7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D1DD-05A0-4485-A7F5-6A04B88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E434-A72E-4AEE-B4AA-E58936BA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44A-A86E-4472-A5DB-BC0D1CAD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127-35EB-4F84-B063-D303FC4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7BE8-22CA-425F-826C-8E6380C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2C1-0486-49C2-82E7-C7EBEA8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F98-CE49-4931-943E-15F0D0E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EEAC-666F-4E33-A7E1-2C167836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497-F065-4735-BC20-6AABD51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459E-89B1-4CE9-804E-B7DFCFF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39B-EF25-4FC7-8BB1-60E671CB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372B-5A89-4B2A-AB08-43C2A9D6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E77-7554-4D2B-933D-44D5A23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638-C956-4275-BBC7-4A8B226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9DE-5D5A-44C7-9A70-AA287F8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553-78DB-479E-A6AE-EF750561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FF0-CAF5-417C-808A-0320A56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55C-5611-48E0-9525-8269065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BF6-13B4-4BAD-8C24-06CEA07F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30000" indent="-2412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712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600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079D36-78F2-4649-A14B-B93A3F1D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DC0691-5A30-4206-A9C3-9BE191B758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6640" indent="-2966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4760" indent="-24696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ção ao Jav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7391520" cy="26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rof. Gustavo Wagner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(modificações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lides originais: Prof. Tiago Massoni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Java Básico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FATEC-PB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198960" y="6172200"/>
            <a:ext cx="34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de Informática, UF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egur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bientes distribuídos demandam esta caracterís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érie de restrições de segu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canismo de segurança de apple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sso de melhora consta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blemas exi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99B-255F-4967-AC97-0AFC3201C3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Portável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13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dependência de plataforma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 tese, redução de custos com migração, treinamento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o: Tamanho de tipos de dad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bliotecas funcionam com relativa independênc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tra-exemplo: AW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1D3-EF37-47FC-84F0-682A6B2D6D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Java é Independente de Plataform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acterística chave de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cipal fator de inovação da plataforma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se todas as decisões dos projetistas de Java priorizam esta característic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rece mais detalhes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2D9-6CF2-41AC-AEB4-1691E14758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mpilação x Interpretaçã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 dependente de máquina é gerado a partir de um código-fon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-fonte é executado diretamente sem a geração de código dependente de máquina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198-88FE-47B5-886B-14D670E12D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taforma = Sistema Computacional +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 nomeada pelo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: Windows, Linux (Unix), Mac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erem no conjunto de instru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361-C910-4B00-92EC-43011BC5A5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gramas e 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as são compilados (traduzidos) para linguagem de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o de bibliotecas (API) específicas da plataform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as não-portávei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86728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95288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541008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64320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8803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273480"/>
            <a:ext cx="99072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xwin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970360"/>
            <a:ext cx="167652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ECL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REATEW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3949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18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89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5720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74960" y="6172200"/>
            <a:ext cx="84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152-3821-4015-856C-03712C3C3A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istemas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1676160"/>
            <a:ext cx="8074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rtabilid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e Once, Run Anywhe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ortante em aplicações distribuídas (Internet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m único programa executa uniformemente em “qualquer” 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VA!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223-517E-4D44-973D-7F90818B69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773840" cy="48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binação compilação + 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áquina virtual Java: ponte entre programas e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taforma” Jav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dor Java traduz programas par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bytecod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que são interpretados para a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6DF-557B-4118-B782-C46EA83DE1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48640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11480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1360" y="457200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57796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95668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057400"/>
            <a:ext cx="13716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new apple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38960" y="2573280"/>
            <a:ext cx="1447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54760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1240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5891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omic Sans MS"/>
              </a:rPr>
              <a:t>Byt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79800" y="5029200"/>
            <a:ext cx="2619360" cy="4572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áquina virtual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04812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9160" y="5257800"/>
            <a:ext cx="1451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3579840"/>
            <a:ext cx="1981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FF9-265C-4FB1-9E3B-4B6933632E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ngenharia Revers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bytecode, por ser interpretado, pode ser “descompilado”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ódigo fonte pode ser recuperado, mesmo depois da compilaçã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ção: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bfusc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D6F-FD2C-45BB-BA29-B5B7948E62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37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iada pela Sun Micro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pecificação de uma lingu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gramação orientada a objeto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pósito ger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oje padronização no Java Community Process (JC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mente associada à explosão da Web como ambiente de trabalho e lazer (apple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B61-B8C6-47E1-A188-88BB80920B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ão há necessidade de mudanças em programas para funcionamento em diferentes plataform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enas uma versão do programa é suficiente para distribuição multi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ftware para Inter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842-1B7E-4591-B4FF-E1D89D3903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Des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de-se poder pela renúncia a algumas instruções particula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nominador comu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pretação pode ter desempenho pior do que compil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 particular, a plataforma Java evoluiu ba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Just-in-t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JI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A14-E68A-4E43-B8D0-84273E7C42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volução do Compilador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rendizado com o status da máquina: HotSpo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B49-6DB2-4BCD-916B-9A1182D61AE0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o mesmo tempo uma linguagem e uma plataforma (máquina virtual e bibliotec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giu do questionamen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eficiência vs. Portabilidade (simplicida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éias inovadoras que influenciaram a indústria de forma signifi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Comic Sans MS"/>
              </a:rPr>
              <a:t>Visual J++, C#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058-B0AF-4EEE-AE9C-0C8D4B7B06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90: início dos trabalhos na Sun com portabi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mes Gosling: Pai de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ão ao software proprietár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++ (menos men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s simp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e de arquitetu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E36-CAA4-431B-AD3D-DFA9F1876D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120" y="121428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4: Explosão do WW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ogia de navegadores incentivou aquelas idé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ou de apenas HTML (estático) para aplicações dinâmicas com App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rou Java pela 1a. Vez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, IBM, Symantec, Microso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6: Primeira versão (1.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8: Java 2 (1.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3: Java 2 (1.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5: Java 2 (1.5) – JDK 5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D79-5E2D-403D-9E29-0A439B4A47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s palavras chave de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ava é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rientada a obje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obust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gur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ortá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151-ACE2-43BA-9A01-8CFFA648F9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imple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3964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taxe familiar a vários programadores (baseada em C e C++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a conceitos complexos de C++, tais como: aritmética de ponteiros e gerência de memória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s, pelo poder oferec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manho reduz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9F5-F4D4-4360-865C-1271D83483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Orientada a Objeto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jetos e Clas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capsulamento de dados e operaçõ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ipos e He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ou complexidades de objetos do C+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D95-3A6A-4DDD-9505-16E5FC2AEA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Robust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usência de ponteiros: mentira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rova: NullPointerException! :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temente tipad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ilador “chato”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1.5 inclusive checa tipo de objetos em tempo de compilação das estruturas de d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eta de lixo automática: Garbage Collec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esso a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rray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é verifica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áveis são iniciadas automatic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 exceção de variáveis loca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E9C-23A1-4F3D-8EFD-06F523418A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lipe</cp:lastModifiedBy>
  <dcterms:modified xsi:type="dcterms:W3CDTF">2006-02-06T04:51:53Z</dcterms:modified>
  <cp:revision>1</cp:revision>
  <dc:subject/>
  <dc:title>Introdução ao Java</dc:title>
</cp:coreProperties>
</file>