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wmf" ContentType="image/x-wmf"/>
  <Override PartName="/ppt/media/image8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A4815-BF99-4301-BA34-B0B8C758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4FB39-9052-4A02-81ED-84A93428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16E9-17F8-40F4-A3E6-D05A48DF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D97B-AAA3-4024-B0C4-38546A99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F75A-AB5F-4277-910C-D19393A5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177C-6C30-446E-84B3-30A3BE3C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DBE3-3518-48C5-8FEE-87A62303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DB9F-2FC0-41E0-B15F-16421053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24F0-3D6F-4877-B346-DD75CBF4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B24A-17C8-444A-8624-E2A1BC4A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18A1-DB5A-4365-B1A7-A76895F3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8D46-5740-435B-B5A9-86F00BA1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1237-6037-41E7-8328-A03F3F43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BD92-B2EC-4D4A-A9FA-1064B485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2620-3F1D-44CF-8021-C4E3465D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D1E6-959A-4CD3-8267-4E8EE23E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6CDE-1933-44CE-9F3D-8C21FBAA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0E02-20CA-4875-8CC7-234A34C9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C76A7-6F39-4CCA-87CC-B3948339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C6B9-03AB-42D8-9D7F-17DB9BFA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3999-63EE-440F-80EF-636424DB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1BC4-808E-407F-A81A-9729F3FD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F4B2-9A7D-42E9-A37E-ACEF8CF9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D627-9209-4308-B423-091756D1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C3C5-BD86-4B6C-A7A4-9B47A07F91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38D7-A4B6-42DD-A993-82B5E06D19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77080" y="476280"/>
            <a:ext cx="1838160" cy="16192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atec - Java!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61928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ustavo Wagn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ugawag@gmail.c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06436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4360" y="453960"/>
            <a:ext cx="806436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9640" y="415800"/>
            <a:ext cx="806472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8360" y="495360"/>
            <a:ext cx="799128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000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8360" y="388800"/>
            <a:ext cx="80643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357120"/>
            <a:ext cx="806436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7058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63272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701640"/>
            <a:ext cx="748980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53376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41672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6327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que Ja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once, run 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bstrai alguns conceitos “baixo níveis” tais como aritmética de ponteiros e alocação de memó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03640" y="1413000"/>
            <a:ext cx="2527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5981760" cy="2266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 por que Ja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que futuramente todos os aparelhos eletrônicos terão Java; (J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76720" y="3571920"/>
            <a:ext cx="1305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3152880" cy="4273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227640" y="4437000"/>
            <a:ext cx="1463760" cy="944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067280" y="1341360"/>
            <a:ext cx="2881080" cy="165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141300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! Vê se diminui a temperatura para que a carne não me esquent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708360" y="2349000"/>
            <a:ext cx="358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04000" y="3429000"/>
            <a:ext cx="136836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z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308720" y="4365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 por que Ja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es empresas estão investindo os tubos! - J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71640" y="3068640"/>
            <a:ext cx="44737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Brother 5 Case - J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14600" y="2585880"/>
            <a:ext cx="4114800" cy="1686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80000" y="4149720"/>
            <a:ext cx="13334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 por que Ja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que todos os concursos pedem Jav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8567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 por que Java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que seu papai poderá comprar milhões de pirulitos para você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59280" y="3141720"/>
            <a:ext cx="3068640" cy="3510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659640" y="3141720"/>
            <a:ext cx="1873080" cy="151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2720" y="371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ora entendi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867280" y="3933360"/>
            <a:ext cx="792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00:42:01Z</dcterms:created>
  <dc:creator>Gustavo Wagner Diniz Mendes</dc:creator>
  <dc:description/>
  <cp:keywords/>
  <dc:language>en-US</dc:language>
  <cp:lastModifiedBy>Filipe</cp:lastModifiedBy>
  <dcterms:modified xsi:type="dcterms:W3CDTF">2006-02-03T03:04:14Z</dcterms:modified>
  <cp:revision>8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11033</vt:lpwstr>
  </property>
</Properties>
</file>