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09760" y="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6200" y="701280"/>
            <a:ext cx="4778640" cy="35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66960" y="4599000"/>
            <a:ext cx="53956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09760" y="912024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3D7C5-29AB-466A-B08B-230C4E64E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0BA9B0-5BDB-4356-BA5B-F2CE0315E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2E989A-89A2-4828-B194-B6AED22ABF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0D75AF-8F4C-4314-8F25-ED026535FD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1875A-C807-4647-9B7D-DC26EC8B44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803AF0-ECC2-4BC5-9C4E-ABD3C9AF3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F2195C-9272-4BE1-B6EF-C057064B8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424BF6-7226-4F4B-86CF-B51DBE01EC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5C7D6-B574-4E44-B2D5-1039D7CF8B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6ED289-5280-484F-9AB1-DB54B8D91A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4DB4A2-2B2E-4142-BE9D-4335BDA6DF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17A-7649-4032-9834-F11E810C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605-91B3-4CF4-956C-3C7B4823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CCE-9313-4D92-8AC2-64E758CA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D37-ABB8-4914-8FC8-F735FB6B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9793-FF78-4316-8F8E-66D92BEA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39D5-E753-475D-876A-FBCABCD9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D6DC-096B-48E7-9285-768432E0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07D-7291-41A1-82AC-C83BA527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6BA6-6832-468C-AAB8-6000909C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7023-BFD5-4E17-93F9-14CBEFE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9EF-EDCE-4C2C-8F48-057977F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36D-0C19-413E-9216-C434137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509A-277C-4912-B197-79955DE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0A96-0C17-4130-8157-4F25254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95C-710A-4FC3-9E05-EB3501C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BBFF-EAA0-48B9-A904-1A5DFB5A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52CD-72FD-42FF-B9FB-56EB135B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A90-465E-4CC2-84CF-AFBE756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506-5910-407A-8497-7856E0E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477-CFBF-4314-A2FF-24B4D76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B1E-5B00-47C2-9AA8-37C58CD2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4E5-6BBD-4876-B53A-6AFF9B8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37E-385E-41A9-AD4B-05CC8F5E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09B-A7D7-4882-B004-CBFF1A9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30000" indent="-2412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712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600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5AD3D1-3FE6-41AD-9611-FA8D5950E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29DAD6-AA04-4C55-A3A2-90AE502C6E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6640" indent="-2966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4760" indent="-24696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rodução ao Jav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7391520" cy="26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Prof. Gustavo Wagner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(modificações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Slides originais: Prof. Tiago Massoni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Java Básico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FATEC-PB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198960" y="6172200"/>
            <a:ext cx="34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de Informática, UF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egur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bientes distribuídos demandam esta característ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érie de restrições de segu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canismo de segurança de apple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cesso de melhora consta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blemas exi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0A2-D94A-4B8A-88B3-68864A616C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Portável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13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dependência de plataforma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 tese, redução de custos com migração, treinamento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o: Tamanho de tipos de dad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bliotecas funcionam com relativa independênc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tra-exemplo: AW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318-FA13-4948-80A0-5BF3C8AAEA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Java é Independente de Plataform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acterística chave de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ncipal fator de inovação da plataforma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se todas as decisões dos projetistas de Java priorizam esta característic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rece mais detalhes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5E1-D926-4230-BB28-1A3F5EADFC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mpilação x Interpretaçã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26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 dependente de máquina é gerado a partir de um código-fon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-fonte é executado diretamente sem a geração de código dependente de máquina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F52-B537-4B97-A8E2-1C93E0D4D6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taforma = Sistema Computacional +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mente nomeada pelo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: Windows, Linux (Unix), Mac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erem no conjunto de instru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244-E995-4FF9-913E-2D16D2C91F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gramas e 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as são compilados (traduzidos) para linguagem de máqu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o de bibliotecas (API) específicas da plataform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as não-portávei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86728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95288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541008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64320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8803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273480"/>
            <a:ext cx="99072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xwin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970360"/>
            <a:ext cx="167652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ECL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REATEW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3949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189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893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57200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474960" y="6172200"/>
            <a:ext cx="84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628-A048-4334-A82D-AF6600589B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istemas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720" y="1676160"/>
            <a:ext cx="8074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rtabilid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Write Once, Run Anywhe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ortante em aplicações distribuídas (Internet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m único programa executa uniformemente em “qualquer” 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AVA!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F49-94FD-47A9-92B7-6CA3B8D9FB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773840" cy="48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binação compilação + 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áquina virtual Java: ponte entre programas e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lataforma” Jav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dor Java traduz programas para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bytecod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que são interpretados para a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44B-59ED-4898-BEAA-8F8DE8161B9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48640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11480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81360" y="457200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57796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95668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057400"/>
            <a:ext cx="137160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new applet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38960" y="2573280"/>
            <a:ext cx="1447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54760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12408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5891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Comic Sans MS"/>
              </a:rPr>
              <a:t>Byt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79800" y="5029200"/>
            <a:ext cx="2619360" cy="4572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áquina virtual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04812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9160" y="5257800"/>
            <a:ext cx="1451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3579840"/>
            <a:ext cx="1981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r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AE5-88D5-4732-9973-EAFBD1BEA9F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ngenharia Revers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bytecode, por ser interpretado, pode ser “descompilado”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ódigo fonte pode ser recuperado, mesmo depois da compilação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ção: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bfuscat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AFF-1E4A-479E-A6C6-8840CEACEE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37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iada pela Sun Micro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pecificação de uma lingua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gramação orientada a objeto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pósito ger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oje padronização no Java Community Process (JC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mente associada à explosão da Web como ambiente de trabalho e lazer (apple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779-AE4B-4530-8EB5-5CF5F7C389A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ão há necessidade de mudanças em programas para funcionamento em diferentes plataform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enas uma versão do programa é suficiente para distribuição multi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ftware para Inter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BAE-F759-4AA2-A28B-8BF54875F1C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Des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de-se poder pela renúncia a algumas instruções particula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nominador comu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pretação pode ter desempenho pior do que compil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 particular, a plataforma Java evoluiu ba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Just-in-t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(JI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445-B1EE-423F-BFBB-CD369695D9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volução do Compilador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rendizado com o status da máquina: HotSpo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5AD-5206-44A3-9997-1DA4E3D3FBA2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o mesmo tempo uma linguagem e uma plataforma (máquina virtual e bibliotec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giu do questionamento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eficiência vs. Portabilidade (simplicida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éias inovadoras que influenciaram a indústria de forma signific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Comic Sans MS"/>
              </a:rPr>
              <a:t>Visual J++, C#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BA3-CDA8-4461-8B6F-DDC857D7DE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90: início dos trabalhos na Sun com portabi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mes Gosling: Pai de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ão ao software proprietár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++ (menos men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s simp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e de arquitetu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6AD-7F20-4831-8460-0BE1EE184B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1120" y="1214280"/>
            <a:ext cx="822960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4: Explosão do WW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ogia de navegadores incentivou aquelas idé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ou de apenas HTML (estático) para aplicações dinâmicas com App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rou Java pela 1a. Vez (199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scape, IBM, Symantec, Microso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6: Primeira versão (1.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8: Java 2 (1.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3: Java 2 (1.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5: Java 2 (1.5) – JDK 5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304-EBB6-452A-929D-1EB42177E6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s palavras chave de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ava é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rientada a obje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obust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egur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ortá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222-24C0-4EA0-9D82-0FE1366E44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imple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3964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taxe familiar a vários programadores (baseada em C e C++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a conceitos complexos de C++, tais como: aritmética de ponteiros e gerência de memória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s, pelo poder oferec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manho reduz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B80-2F73-4C44-844C-4181C506E3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Orientada a Objeto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jetos e Clas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capsulamento de dados e operaçõ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ipos e He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ou complexidades de objetos do C+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7E4-AB6E-4FAC-A72D-DD4975968E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Robust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usência de ponteiros: mentira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rova: NullPointerException! :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temente tipad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ilador “chato”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1.5 inclusive checa tipo de objetos em tempo de compilação das estruturas de d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eta de lixo automática: Garbage Collec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esso a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array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é verifica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áveis são iniciadas automatic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 exceção de variáveis loca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07D-E1D1-4AD6-8565-B903238FF8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lipe</cp:lastModifiedBy>
  <dcterms:modified xsi:type="dcterms:W3CDTF">2006-02-06T04:51:53Z</dcterms:modified>
  <cp:revision>1</cp:revision>
  <dc:subject/>
  <dc:title>Introdução ao Java</dc:title>
</cp:coreProperties>
</file>